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D1B94-CCD2-4ED6-AA6F-DB515ACA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8AF0B-69E0-4BA5-A7D5-C5889387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57982-DA31-4F6A-B19A-6EBCE20F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298E0-98BD-4D05-868D-177F07C1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77719-007C-4EDF-AFDF-A5A06737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35ED2-8D8C-4B59-A9FF-883F23E0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8BC86-1970-4CA0-960B-DA67582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87932-3B54-465B-A8A2-9660E410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7F7D5-6044-419A-A1A8-EF9B7244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3487C-64F2-49FD-BE32-DAEDF310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98366-A707-4180-BB76-FA8DD761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2E9CC-7EC1-4ACF-9441-188B59A5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52522-960F-48CE-BB0B-5C6F6F123C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23072-3C6A-483B-BD87-73E023FC6C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33A76-2D1E-453F-807D-26212BF0F8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24500-CED8-40A1-AFDC-787444BA1E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F7472-901E-42CD-AF7C-B4775C53D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6C5AD-E167-4F45-B06A-ACBE0815DF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C759C-D023-46B4-BB19-90B0EF676E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2614B-1FC5-4C1D-B77D-0E3BABAE44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09234-4970-4FA5-B1FA-0B84AF21C9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E9B9B-8978-4F3A-AF39-F0CDB2684B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5ED6D-60E9-41D8-A26E-EAF1A4F6AF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EE119-D980-4442-B2EE-61F863B77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352680" y="6476760"/>
            <a:ext cx="5562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© 2012 Pearson Education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36A9-1A3F-406D-AB50-3568A47C8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fb9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</a:t>
            </a:r>
            <a:fld id="{0ADD4AA5-E53D-4859-A367-C584E3EC24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429000" y="243828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Softwar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of Program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W logo"/>
          <p:cNvPicPr/>
          <p:nvPr/>
        </p:nvPicPr>
        <p:blipFill>
          <a:blip r:embed="rId1"/>
          <a:stretch/>
        </p:blipFill>
        <p:spPr>
          <a:xfrm>
            <a:off x="0" y="6064200"/>
            <a:ext cx="1060560" cy="793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5181480" y="483696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Lof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Untitled.png"/>
          <p:cNvPicPr/>
          <p:nvPr/>
        </p:nvPicPr>
        <p:blipFill>
          <a:blip r:embed="rId2"/>
          <a:stretch/>
        </p:blipFill>
        <p:spPr>
          <a:xfrm>
            <a:off x="304920" y="1828800"/>
            <a:ext cx="3047760" cy="3809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609480" y="76212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llingDic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creation and use of a user-defined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ingD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wo Die objects and rolls them several ti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 die1, die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1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2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e One: " + die1 + ", Die Two: " + di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609480" y="5335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hrenhei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ext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temperature converter GU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Fahrenhei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609480" y="5335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hrenhei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ext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and displays the temperature converter GU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Fahrenhei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12"/>
          <p:cNvGrpSpPr/>
          <p:nvPr/>
        </p:nvGrpSpPr>
        <p:grpSpPr>
          <a:xfrm>
            <a:off x="2286000" y="485640"/>
            <a:ext cx="4495680" cy="1704960"/>
            <a:chOff x="2286000" y="485640"/>
            <a:chExt cx="4495680" cy="1704960"/>
          </a:xfrm>
        </p:grpSpPr>
        <p:sp>
          <p:nvSpPr>
            <p:cNvPr id="583" name="TextBox 5"/>
            <p:cNvSpPr/>
            <p:nvPr/>
          </p:nvSpPr>
          <p:spPr>
            <a:xfrm>
              <a:off x="2286000" y="485640"/>
              <a:ext cx="4495680" cy="17049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11" descr="Screen shot 2011-02-17 at 2.55.19 PM.png"/>
            <p:cNvPicPr/>
            <p:nvPr/>
          </p:nvPicPr>
          <p:blipFill>
            <a:blip r:embed="rId1"/>
            <a:stretch/>
          </p:blipFill>
          <p:spPr>
            <a:xfrm>
              <a:off x="2619720" y="727560"/>
              <a:ext cx="3797280" cy="1232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hrenheit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text fiel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inputLabel, outputLabel, resultLab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TextField fahrenhei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main GUI compon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Lab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Enter Fahrenheit temperature: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Lab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Temperature in Celsius: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Lab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("---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TextField (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.addActionListen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isten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60948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inputLab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fahrenhe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outputLab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resultLab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75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n action listener for the temperature input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erforms the conversion when the enter key is pressed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text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 (Action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Temp, celsiusTe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ext = fahrenheit.getTex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609480" y="1428840"/>
            <a:ext cx="7910640" cy="21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Temp = Integer.parseInt (tex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elsiusTemp = (fahrenheitTemp-32) * 5/9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Label.setText (Integer.toString (celsiusTemp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hrenhei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, the GUI is set up in a separate panel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emp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ner class defines the listener for the action event generated by the tex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hrenheit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uctor instantiates the listener and adds it to the text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user types a temperature and presses enter, the text field generates the action event and call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 focu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and Java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 and parameter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nd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609480" y="96372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1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2.setFaceValue(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e One: " + die1 + ", Die Two: " + di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die1.getFaceValue() + die2.getFaceValu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um: " + 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die1.roll() + die2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e One: " + die1 + ", Die Two: " + di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ew sum: " + 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609480" y="963720"/>
            <a:ext cx="7910640" cy="325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1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2.setFaceValue(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e One: " + die1 + ", Die Two: " + di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die1.getFaceValue() + die2.getFaceValu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um: " + 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= die1.roll() + die2.rol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Die One: " + die1 + ", Die Two: " + die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New sum: " + su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2833920" y="838080"/>
            <a:ext cx="3048840" cy="2009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Sampl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e One: 5, Die Two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e One: 1, Die Two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e One: 4, Die Two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sum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609480" y="685800"/>
            <a:ext cx="7910640" cy="49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one die (singular of dice) with faces showing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between 1 and 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6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imum face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urrent value showing on the d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the initial face val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olls the die and returns the resul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 =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(Math.random() * MAX) +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ce value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FaceValu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 = 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Face value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FaceValu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609480" y="1023840"/>
            <a:ext cx="7910640" cy="28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string representation of this d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result = Integer.toString(faceVa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e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two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t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presents the maximum f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g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ce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presents the current f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us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to determine a new fac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also methods to explicitly set and retrieve the current face value at an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oString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good practice to defin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for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returns a character string that represents the object in som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alled automatically when an object is concatenated to a string or when it is passed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's also convenient for debugg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entioned previously,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set up an object when it is initially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structor has the same name as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uctor is used to set the initial face value of each new die object to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xamine constructors in more detail later in this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o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ata is the area in a program in which that data can be referenced (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clared at the class level can be referenced by all methods in tha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clared within a method can be used only in tha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clared within a method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, th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clared insid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-- it is local to that method and cannot be referenced anywhere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3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've been using predefined classes from the Java API. Now we will learn to write our own class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pter 4 focuses 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and Java mod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 and parameter pa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nd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able declared at the class level (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stance (object) has its own instanc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declares the type of the data, but it does not reserve memory space for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ime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is created, a ne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ce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is created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s of a class share the method definitions, but each object has its own data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's the only way two objects can have different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depict the 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llingD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602000" y="2498760"/>
            <a:ext cx="5167080" cy="1523520"/>
            <a:chOff x="1602000" y="2498760"/>
            <a:chExt cx="5167080" cy="1523520"/>
          </a:xfrm>
        </p:grpSpPr>
        <p:grpSp>
          <p:nvGrpSpPr>
            <p:cNvPr id="193" name="Group 5"/>
            <p:cNvGrpSpPr/>
            <p:nvPr/>
          </p:nvGrpSpPr>
          <p:grpSpPr>
            <a:xfrm>
              <a:off x="1602000" y="2498760"/>
              <a:ext cx="5135400" cy="533160"/>
              <a:chOff x="1602000" y="2498760"/>
              <a:chExt cx="5135400" cy="533160"/>
            </a:xfrm>
          </p:grpSpPr>
          <p:sp>
            <p:nvSpPr>
              <p:cNvPr id="194" name="Rectangle 6"/>
              <p:cNvSpPr/>
              <p:nvPr/>
            </p:nvSpPr>
            <p:spPr>
              <a:xfrm>
                <a:off x="2470320" y="2574720"/>
                <a:ext cx="685800" cy="380520"/>
              </a:xfrm>
              <a:prstGeom prst="rect">
                <a:avLst/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"/>
              <p:cNvSpPr/>
              <p:nvPr/>
            </p:nvSpPr>
            <p:spPr>
              <a:xfrm>
                <a:off x="1602000" y="2566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ie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8"/>
              <p:cNvSpPr/>
              <p:nvPr/>
            </p:nvSpPr>
            <p:spPr>
              <a:xfrm>
                <a:off x="3841920" y="2498760"/>
                <a:ext cx="289548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9"/>
              <p:cNvSpPr/>
              <p:nvPr/>
            </p:nvSpPr>
            <p:spPr>
              <a:xfrm>
                <a:off x="2851200" y="27651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0"/>
              <p:cNvSpPr/>
              <p:nvPr/>
            </p:nvSpPr>
            <p:spPr>
              <a:xfrm>
                <a:off x="5746680" y="2574720"/>
                <a:ext cx="685800" cy="380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1"/>
              <p:cNvSpPr/>
              <p:nvPr/>
            </p:nvSpPr>
            <p:spPr>
              <a:xfrm>
                <a:off x="4071960" y="256680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aceValu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2"/>
            <p:cNvGrpSpPr/>
            <p:nvPr/>
          </p:nvGrpSpPr>
          <p:grpSpPr>
            <a:xfrm>
              <a:off x="1633680" y="3489120"/>
              <a:ext cx="5135400" cy="533160"/>
              <a:chOff x="1633680" y="3489120"/>
              <a:chExt cx="5135400" cy="533160"/>
            </a:xfrm>
          </p:grpSpPr>
          <p:sp>
            <p:nvSpPr>
              <p:cNvPr id="201" name="Rectangle 13"/>
              <p:cNvSpPr/>
              <p:nvPr/>
            </p:nvSpPr>
            <p:spPr>
              <a:xfrm>
                <a:off x="2502000" y="3565080"/>
                <a:ext cx="685800" cy="380520"/>
              </a:xfrm>
              <a:prstGeom prst="rect">
                <a:avLst/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4"/>
              <p:cNvSpPr/>
              <p:nvPr/>
            </p:nvSpPr>
            <p:spPr>
              <a:xfrm>
                <a:off x="1633680" y="35571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die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15"/>
              <p:cNvSpPr/>
              <p:nvPr/>
            </p:nvSpPr>
            <p:spPr>
              <a:xfrm>
                <a:off x="3873600" y="3489120"/>
                <a:ext cx="289548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f5e98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6"/>
              <p:cNvSpPr/>
              <p:nvPr/>
            </p:nvSpPr>
            <p:spPr>
              <a:xfrm>
                <a:off x="2882880" y="37555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7"/>
              <p:cNvSpPr/>
              <p:nvPr/>
            </p:nvSpPr>
            <p:spPr>
              <a:xfrm>
                <a:off x="5778720" y="3565080"/>
                <a:ext cx="685800" cy="380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18"/>
              <p:cNvSpPr/>
              <p:nvPr/>
            </p:nvSpPr>
            <p:spPr>
              <a:xfrm>
                <a:off x="4103640" y="355716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faceValu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Text Box 19"/>
          <p:cNvSpPr/>
          <p:nvPr/>
        </p:nvSpPr>
        <p:spPr>
          <a:xfrm>
            <a:off x="1371600" y="447984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Each object maintains its own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faceValue</a:t>
            </a: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 variable, and thus its own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20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L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stands for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fied Model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ML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relationships among classes and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M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ass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s of one or more classes, each with sections for the class name, attributes (data), and operations (meth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between classes repres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tted arrow shows that one cla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other (calls its metho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L Class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454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ML class diagram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llingD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7"/>
          <p:cNvGrpSpPr/>
          <p:nvPr/>
        </p:nvGrpSpPr>
        <p:grpSpPr>
          <a:xfrm>
            <a:off x="914400" y="2748240"/>
            <a:ext cx="7162920" cy="2052360"/>
            <a:chOff x="914400" y="2748240"/>
            <a:chExt cx="7162920" cy="2052360"/>
          </a:xfrm>
        </p:grpSpPr>
        <p:sp>
          <p:nvSpPr>
            <p:cNvPr id="215" name="Rectangle 5"/>
            <p:cNvSpPr/>
            <p:nvPr/>
          </p:nvSpPr>
          <p:spPr>
            <a:xfrm>
              <a:off x="914400" y="2748240"/>
              <a:ext cx="304812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RollingD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914400" y="3152520"/>
              <a:ext cx="3048120" cy="30492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914400" y="3443040"/>
              <a:ext cx="3048120" cy="4716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ain (args : String[]) : v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4800600" y="2762640"/>
              <a:ext cx="3276720" cy="398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</a:rPr>
                <a:t>D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9"/>
            <p:cNvSpPr/>
            <p:nvPr/>
          </p:nvSpPr>
          <p:spPr>
            <a:xfrm>
              <a:off x="4800600" y="3166920"/>
              <a:ext cx="3276720" cy="44280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faceValue : 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4800600" y="3609720"/>
              <a:ext cx="3276720" cy="1190880"/>
            </a:xfrm>
            <a:prstGeom prst="rect">
              <a:avLst/>
            </a:prstGeom>
            <a:solidFill>
              <a:srgbClr val="96fe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roll() : 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setFaceValue (int value) : v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getFaceValue() : 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toString() : St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3962520" y="29718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304920" y="10666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lationship between a class and an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04920" y="10666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lationship between a class and an obje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685800" y="2209680"/>
            <a:ext cx="80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is the definition/pattern/blueprint of an object. It defines the data that will be managed by an object but doesn't reserve memory space for it. Multiple objects can be created from a class, and each object has its own copy of the instanc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304920" y="106668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instance data decla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cope of instance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local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304920" y="106668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instance data decla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cope of instance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local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685800" y="167652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class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referenced in any method of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data is declared within a method, and is only accessible in that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667600" y="16812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828800" y="2290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take one of two views of an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 -  the details of the variables and methods of the class that defin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 -  the services that an object provides and how the object interacts with the rest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external view, an object i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capsu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ity, providing a set of specific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ervices defin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667600" y="16812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828800" y="175896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bject (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may use another object for the services it prov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 of an object may request its services (call its methods), but it should not have to be aware of how those services are accomplis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hanges to the object's state (its variables) should be made by that object's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hould make it difficult, if not impossible, for a client to access an object’s variables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s, an object should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lf-gov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5"/>
          <p:cNvGrpSpPr/>
          <p:nvPr/>
        </p:nvGrpSpPr>
        <p:grpSpPr>
          <a:xfrm>
            <a:off x="3732120" y="3581280"/>
            <a:ext cx="2895480" cy="2514600"/>
            <a:chOff x="3732120" y="3581280"/>
            <a:chExt cx="2895480" cy="2514600"/>
          </a:xfrm>
        </p:grpSpPr>
        <p:sp>
          <p:nvSpPr>
            <p:cNvPr id="247" name="Rectangle 3"/>
            <p:cNvSpPr/>
            <p:nvPr/>
          </p:nvSpPr>
          <p:spPr>
            <a:xfrm>
              <a:off x="4189320" y="3581280"/>
              <a:ext cx="2438280" cy="2514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"/>
            <p:cNvSpPr/>
            <p:nvPr/>
          </p:nvSpPr>
          <p:spPr>
            <a:xfrm flipH="1">
              <a:off x="3808080" y="396252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5"/>
            <p:cNvSpPr/>
            <p:nvPr/>
          </p:nvSpPr>
          <p:spPr>
            <a:xfrm>
              <a:off x="3732120" y="3886200"/>
              <a:ext cx="152280" cy="152280"/>
            </a:xfrm>
            <a:prstGeom prst="ellipse">
              <a:avLst/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 flipH="1">
              <a:off x="3808080" y="419112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7"/>
            <p:cNvSpPr/>
            <p:nvPr/>
          </p:nvSpPr>
          <p:spPr>
            <a:xfrm flipH="1">
              <a:off x="3808080" y="4419720"/>
              <a:ext cx="609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"/>
            <p:cNvSpPr/>
            <p:nvPr/>
          </p:nvSpPr>
          <p:spPr>
            <a:xfrm>
              <a:off x="3732120" y="4343400"/>
              <a:ext cx="152280" cy="152280"/>
            </a:xfrm>
            <a:prstGeom prst="ellipse">
              <a:avLst/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"/>
            <p:cNvSpPr/>
            <p:nvPr/>
          </p:nvSpPr>
          <p:spPr>
            <a:xfrm>
              <a:off x="3732120" y="4114800"/>
              <a:ext cx="152280" cy="152280"/>
            </a:xfrm>
            <a:prstGeom prst="ellipse">
              <a:avLst/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capsulated object can be thought of 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ack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its inner workings are hidden from th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ent invokes the interface methods and they manage the inst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4"/>
          <p:cNvGrpSpPr/>
          <p:nvPr/>
        </p:nvGrpSpPr>
        <p:grpSpPr>
          <a:xfrm>
            <a:off x="4417920" y="3809880"/>
            <a:ext cx="1981080" cy="2057400"/>
            <a:chOff x="4417920" y="3809880"/>
            <a:chExt cx="1981080" cy="2057400"/>
          </a:xfrm>
        </p:grpSpPr>
        <p:sp>
          <p:nvSpPr>
            <p:cNvPr id="257" name="Rectangle 14"/>
            <p:cNvSpPr/>
            <p:nvPr/>
          </p:nvSpPr>
          <p:spPr>
            <a:xfrm>
              <a:off x="4417920" y="3809880"/>
              <a:ext cx="1981080" cy="76212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4417920" y="5181480"/>
              <a:ext cx="1981080" cy="685800"/>
            </a:xfrm>
            <a:prstGeom prst="rect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6"/>
            <p:cNvSpPr/>
            <p:nvPr/>
          </p:nvSpPr>
          <p:spPr>
            <a:xfrm>
              <a:off x="5332320" y="4572000"/>
              <a:ext cx="228600" cy="609480"/>
            </a:xfrm>
            <a:prstGeom prst="upDownArrow">
              <a:avLst>
                <a:gd name="adj1" fmla="val 50000"/>
                <a:gd name="adj2" fmla="val 53076"/>
              </a:avLst>
            </a:prstGeom>
            <a:solidFill>
              <a:srgbClr val="de2c28"/>
            </a:solidFill>
            <a:ln w="12600">
              <a:solidFill>
                <a:srgbClr val="de2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3"/>
          <p:cNvGrpSpPr/>
          <p:nvPr/>
        </p:nvGrpSpPr>
        <p:grpSpPr>
          <a:xfrm>
            <a:off x="1564200" y="3942360"/>
            <a:ext cx="2015640" cy="398880"/>
            <a:chOff x="1564200" y="3942360"/>
            <a:chExt cx="2015640" cy="398880"/>
          </a:xfrm>
        </p:grpSpPr>
        <p:sp>
          <p:nvSpPr>
            <p:cNvPr id="261" name="Text Box 12"/>
            <p:cNvSpPr/>
            <p:nvPr/>
          </p:nvSpPr>
          <p:spPr>
            <a:xfrm>
              <a:off x="1564200" y="394236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Verdana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22"/>
            <p:cNvSpPr/>
            <p:nvPr/>
          </p:nvSpPr>
          <p:spPr>
            <a:xfrm>
              <a:off x="2589120" y="4038480"/>
              <a:ext cx="990720" cy="228600"/>
            </a:xfrm>
            <a:prstGeom prst="leftRightArrow">
              <a:avLst>
                <a:gd name="adj1" fmla="val 50000"/>
                <a:gd name="adj2" fmla="val 8627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Footer Placeholder 1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Java, we accomplish encapsulation through the appropriate us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ifi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Java reserved word that specifies particular characteristics of a method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ve use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ier to defin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three visibility modifiers: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ifier involves inheritance, which we will discuss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a class that are declared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blic vis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referenced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a class that are declared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vate vis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referenced only within that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declared without a visibility modifier ha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ault visi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an be referenced by any class in the sam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all Java modifiers is presented in Appendix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variables violate encapsulation because they allow the client to modify the values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instance variables should not be declared with public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cceptable to give a constant public visibility, which allows it to be used outside of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constants do not violate encapsulation because, although the client can access it, its value cannot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that provide the object's services are declared with public visibility so that they can be invoked by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methods are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rvic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created simply to assist a service method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a support method is not intended to be called by a client, it should not be declared with public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sibility Mod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1"/>
          <p:cNvGrpSpPr/>
          <p:nvPr/>
        </p:nvGrpSpPr>
        <p:grpSpPr>
          <a:xfrm>
            <a:off x="760680" y="1600200"/>
            <a:ext cx="7164000" cy="3276720"/>
            <a:chOff x="760680" y="1600200"/>
            <a:chExt cx="7164000" cy="3276720"/>
          </a:xfrm>
        </p:grpSpPr>
        <p:sp>
          <p:nvSpPr>
            <p:cNvPr id="278" name="Text Box 4"/>
            <p:cNvSpPr/>
            <p:nvPr/>
          </p:nvSpPr>
          <p:spPr>
            <a:xfrm>
              <a:off x="3065040" y="1600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5715360" y="1600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6"/>
            <p:cNvSpPr/>
            <p:nvPr/>
          </p:nvSpPr>
          <p:spPr>
            <a:xfrm>
              <a:off x="760680" y="259092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Verdana"/>
                </a:rPr>
                <a:t>Vari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887400" y="396252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Verdana"/>
                </a:rPr>
                <a:t>Metho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286000" y="2133720"/>
              <a:ext cx="281916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8"/>
            <p:cNvSpPr/>
            <p:nvPr/>
          </p:nvSpPr>
          <p:spPr>
            <a:xfrm>
              <a:off x="5105160" y="2133720"/>
              <a:ext cx="281952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9"/>
            <p:cNvSpPr/>
            <p:nvPr/>
          </p:nvSpPr>
          <p:spPr>
            <a:xfrm>
              <a:off x="2286000" y="3505320"/>
              <a:ext cx="281916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0"/>
            <p:cNvSpPr/>
            <p:nvPr/>
          </p:nvSpPr>
          <p:spPr>
            <a:xfrm>
              <a:off x="5105160" y="3505320"/>
              <a:ext cx="2819520" cy="13716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16"/>
          <p:cNvSpPr/>
          <p:nvPr/>
        </p:nvSpPr>
        <p:spPr>
          <a:xfrm>
            <a:off x="2396160" y="37800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5334840" y="3597120"/>
            <a:ext cx="234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5401080" y="2408400"/>
            <a:ext cx="22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2581920" y="2408400"/>
            <a:ext cx="22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ors and Mut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nstance data is private, a class usually provides services to access and modify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cessor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the current value of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tator meth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the value of a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s of accessor and mutator methods take the for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pectively, 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ame of th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sometimes called “getters” and “set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ator Restri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mutators gives the class designer the ability to restrict a client’s options to modify an object’s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utator is often designed so that the values of variables can be set only within particular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Face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tator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should restrict the value to the valid range (1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see in Chapter 5 how such restrictions can b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304920" y="106668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a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declared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ok to decl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grams we’ve written in previous examples have used classes defined in the Java standard class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e will begin to design programs that rely on classes that we write our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that contain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just the starting point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object-oriented programming is based on defining classes that represent objects with well-defined characteristics and functio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304920" y="1066680"/>
            <a:ext cx="868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wa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le declared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ok to decl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85800" y="21337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king it private, ea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controls its own data and allows it to be modified only by the well-defined operations it prov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stant. Its value cannot be changed. Therefore, there is no violation of encaps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667600" y="19098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828800" y="3092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now examine methods in mor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thod decla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the code that will be executed when the method is invoked (cal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 is invoked, the flow of control jumps to the method and executes its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lete, the flow returns to the place where the method was called and contin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ocation may or may not return a value, depending on how the method i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1447920" y="2438280"/>
            <a:ext cx="6019560" cy="3581280"/>
            <a:chOff x="1447920" y="2438280"/>
            <a:chExt cx="6019560" cy="3581280"/>
          </a:xfrm>
        </p:grpSpPr>
        <p:sp>
          <p:nvSpPr>
            <p:cNvPr id="312" name="AutoShape 3"/>
            <p:cNvSpPr/>
            <p:nvPr/>
          </p:nvSpPr>
          <p:spPr>
            <a:xfrm>
              <a:off x="1447920" y="2438280"/>
              <a:ext cx="6019560" cy="3581280"/>
            </a:xfrm>
            <a:prstGeom prst="flowChartAlternateProcess">
              <a:avLst/>
            </a:prstGeom>
            <a:solidFill>
              <a:srgbClr val="cc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4"/>
            <p:cNvSpPr/>
            <p:nvPr/>
          </p:nvSpPr>
          <p:spPr>
            <a:xfrm>
              <a:off x="2209680" y="3200400"/>
              <a:ext cx="1599840" cy="23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5"/>
            <p:cNvSpPr/>
            <p:nvPr/>
          </p:nvSpPr>
          <p:spPr>
            <a:xfrm>
              <a:off x="4952880" y="3200400"/>
              <a:ext cx="1599840" cy="182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6"/>
            <p:cNvSpPr/>
            <p:nvPr/>
          </p:nvSpPr>
          <p:spPr>
            <a:xfrm>
              <a:off x="2247840" y="403812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yMethod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7"/>
            <p:cNvSpPr/>
            <p:nvPr/>
          </p:nvSpPr>
          <p:spPr>
            <a:xfrm>
              <a:off x="5167440" y="28188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yMetho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8"/>
            <p:cNvSpPr/>
            <p:nvPr/>
          </p:nvSpPr>
          <p:spPr>
            <a:xfrm>
              <a:off x="2503440" y="281880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mpu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9"/>
            <p:cNvSpPr/>
            <p:nvPr/>
          </p:nvSpPr>
          <p:spPr>
            <a:xfrm>
              <a:off x="5643000" y="31996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0"/>
            <p:cNvSpPr/>
            <p:nvPr/>
          </p:nvSpPr>
          <p:spPr>
            <a:xfrm>
              <a:off x="5563080" y="479988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2887200" y="43426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Control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alled method is in the same class, only the method name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AutoShape 14"/>
          <p:cNvCxnSpPr>
            <a:stCxn id="313" idx="0"/>
            <a:endCxn id="315" idx="0"/>
          </p:cNvCxnSpPr>
          <p:nvPr/>
        </p:nvCxnSpPr>
        <p:spPr>
          <a:xfrm flipH="1">
            <a:off x="3009240" y="3200400"/>
            <a:ext cx="1080" cy="838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4" name="AutoShape 15"/>
          <p:cNvCxnSpPr>
            <a:endCxn id="313" idx="2"/>
          </p:cNvCxnSpPr>
          <p:nvPr/>
        </p:nvCxnSpPr>
        <p:spPr>
          <a:xfrm>
            <a:off x="3009600" y="4664160"/>
            <a:ext cx="1080" cy="8992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5" name="AutoShape 16"/>
          <p:cNvCxnSpPr>
            <a:stCxn id="315" idx="3"/>
            <a:endCxn id="318" idx="1"/>
          </p:cNvCxnSpPr>
          <p:nvPr/>
        </p:nvCxnSpPr>
        <p:spPr>
          <a:xfrm flipV="1">
            <a:off x="3772080" y="3322440"/>
            <a:ext cx="1870560" cy="884880"/>
          </a:xfrm>
          <a:prstGeom prst="bentConnector3">
            <a:avLst>
              <a:gd name="adj1" fmla="val 36515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6" name="AutoShape 17"/>
          <p:cNvCxnSpPr>
            <a:stCxn id="318" idx="2"/>
            <a:endCxn id="319" idx="0"/>
          </p:cNvCxnSpPr>
          <p:nvPr/>
        </p:nvCxnSpPr>
        <p:spPr>
          <a:xfrm flipH="1">
            <a:off x="5765040" y="3444840"/>
            <a:ext cx="2520" cy="135612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7" name="AutoShape 18"/>
          <p:cNvCxnSpPr/>
          <p:nvPr/>
        </p:nvCxnSpPr>
        <p:spPr>
          <a:xfrm rot="10800000">
            <a:off x="3225240" y="4494960"/>
            <a:ext cx="2413440" cy="381960"/>
          </a:xfrm>
          <a:prstGeom prst="bentConnector3">
            <a:avLst>
              <a:gd name="adj1" fmla="val 49425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8" name="Footer Placeholder 1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3581280" y="2286000"/>
            <a:ext cx="4572000" cy="3352680"/>
            <a:chOff x="3581280" y="2286000"/>
            <a:chExt cx="4572000" cy="3352680"/>
          </a:xfrm>
        </p:grpSpPr>
        <p:grpSp>
          <p:nvGrpSpPr>
            <p:cNvPr id="330" name="Group 3"/>
            <p:cNvGrpSpPr/>
            <p:nvPr/>
          </p:nvGrpSpPr>
          <p:grpSpPr>
            <a:xfrm>
              <a:off x="3581280" y="2286000"/>
              <a:ext cx="4572000" cy="3352680"/>
              <a:chOff x="3581280" y="2286000"/>
              <a:chExt cx="4572000" cy="3352680"/>
            </a:xfrm>
          </p:grpSpPr>
          <p:sp>
            <p:nvSpPr>
              <p:cNvPr id="331" name="AutoShape 4"/>
              <p:cNvSpPr/>
              <p:nvPr/>
            </p:nvSpPr>
            <p:spPr>
              <a:xfrm>
                <a:off x="3581280" y="2286000"/>
                <a:ext cx="4572000" cy="3352680"/>
              </a:xfrm>
              <a:prstGeom prst="flowChartAlternateProcess">
                <a:avLst/>
              </a:prstGeom>
              <a:solidFill>
                <a:srgbClr val="cc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5"/>
              <p:cNvSpPr/>
              <p:nvPr/>
            </p:nvSpPr>
            <p:spPr>
              <a:xfrm>
                <a:off x="4516200" y="266652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do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6"/>
              <p:cNvSpPr/>
              <p:nvPr/>
            </p:nvSpPr>
            <p:spPr>
              <a:xfrm>
                <a:off x="4038480" y="3047760"/>
                <a:ext cx="1600200" cy="2133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7"/>
              <p:cNvSpPr/>
              <p:nvPr/>
            </p:nvSpPr>
            <p:spPr>
              <a:xfrm>
                <a:off x="6172200" y="3047760"/>
                <a:ext cx="1600200" cy="1599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8"/>
              <p:cNvSpPr/>
              <p:nvPr/>
            </p:nvSpPr>
            <p:spPr>
              <a:xfrm>
                <a:off x="4716000" y="30466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9"/>
              <p:cNvSpPr/>
              <p:nvPr/>
            </p:nvSpPr>
            <p:spPr>
              <a:xfrm>
                <a:off x="4732200" y="4951800"/>
                <a:ext cx="212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0"/>
              <p:cNvSpPr/>
              <p:nvPr/>
            </p:nvSpPr>
            <p:spPr>
              <a:xfrm>
                <a:off x="6513480" y="2666520"/>
                <a:ext cx="91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help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1"/>
              <p:cNvSpPr/>
              <p:nvPr/>
            </p:nvSpPr>
            <p:spPr>
              <a:xfrm>
                <a:off x="4198680" y="380952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helpMe();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2"/>
              <p:cNvSpPr/>
              <p:nvPr/>
            </p:nvSpPr>
            <p:spPr>
              <a:xfrm>
                <a:off x="6865560" y="4418280"/>
                <a:ext cx="212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3"/>
              <p:cNvSpPr/>
              <p:nvPr/>
            </p:nvSpPr>
            <p:spPr>
              <a:xfrm>
                <a:off x="6849720" y="30466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Text Box 14"/>
            <p:cNvSpPr/>
            <p:nvPr/>
          </p:nvSpPr>
          <p:spPr>
            <a:xfrm>
              <a:off x="4732200" y="411336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5"/>
          <p:cNvGrpSpPr/>
          <p:nvPr/>
        </p:nvGrpSpPr>
        <p:grpSpPr>
          <a:xfrm>
            <a:off x="914400" y="2286000"/>
            <a:ext cx="2362320" cy="3657600"/>
            <a:chOff x="914400" y="2286000"/>
            <a:chExt cx="2362320" cy="3657600"/>
          </a:xfrm>
        </p:grpSpPr>
        <p:sp>
          <p:nvSpPr>
            <p:cNvPr id="343" name="AutoShape 16"/>
            <p:cNvSpPr/>
            <p:nvPr/>
          </p:nvSpPr>
          <p:spPr>
            <a:xfrm>
              <a:off x="914400" y="2286000"/>
              <a:ext cx="2362320" cy="3657600"/>
            </a:xfrm>
            <a:prstGeom prst="flowChartAlternateProcess">
              <a:avLst/>
            </a:prstGeom>
            <a:solidFill>
              <a:srgbClr val="cc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7"/>
            <p:cNvSpPr/>
            <p:nvPr/>
          </p:nvSpPr>
          <p:spPr>
            <a:xfrm>
              <a:off x="1300320" y="3048120"/>
              <a:ext cx="1600200" cy="236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8"/>
            <p:cNvSpPr/>
            <p:nvPr/>
          </p:nvSpPr>
          <p:spPr>
            <a:xfrm>
              <a:off x="1340280" y="3885840"/>
              <a:ext cx="152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bj.doIt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9"/>
            <p:cNvSpPr/>
            <p:nvPr/>
          </p:nvSpPr>
          <p:spPr>
            <a:xfrm>
              <a:off x="1832040" y="26665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1994040" y="41904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Control F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lled method is often part of another class 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AutoShape 23"/>
          <p:cNvCxnSpPr/>
          <p:nvPr/>
        </p:nvCxnSpPr>
        <p:spPr>
          <a:xfrm>
            <a:off x="2100240" y="3048120"/>
            <a:ext cx="2160" cy="838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1" name="AutoShape 24"/>
          <p:cNvCxnSpPr/>
          <p:nvPr/>
        </p:nvCxnSpPr>
        <p:spPr>
          <a:xfrm>
            <a:off x="2099880" y="4435200"/>
            <a:ext cx="1080" cy="9752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2" name="AutoShape 25"/>
          <p:cNvCxnSpPr/>
          <p:nvPr/>
        </p:nvCxnSpPr>
        <p:spPr>
          <a:xfrm rot="10800000">
            <a:off x="2207520" y="4312440"/>
            <a:ext cx="2523240" cy="762840"/>
          </a:xfrm>
          <a:prstGeom prst="bentConnector3">
            <a:avLst>
              <a:gd name="adj1" fmla="val 49957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3" name="AutoShape 26"/>
          <p:cNvCxnSpPr/>
          <p:nvPr/>
        </p:nvCxnSpPr>
        <p:spPr>
          <a:xfrm>
            <a:off x="6972120" y="3292200"/>
            <a:ext cx="1080" cy="1127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4" name="AutoShape 27"/>
          <p:cNvCxnSpPr/>
          <p:nvPr/>
        </p:nvCxnSpPr>
        <p:spPr>
          <a:xfrm>
            <a:off x="4838400" y="3292200"/>
            <a:ext cx="1080" cy="5180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5" name="AutoShape 28"/>
          <p:cNvCxnSpPr/>
          <p:nvPr/>
        </p:nvCxnSpPr>
        <p:spPr>
          <a:xfrm>
            <a:off x="4838400" y="4358880"/>
            <a:ext cx="1080" cy="5943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6" name="AutoShape 29"/>
          <p:cNvCxnSpPr/>
          <p:nvPr/>
        </p:nvCxnSpPr>
        <p:spPr>
          <a:xfrm flipV="1">
            <a:off x="5478480" y="3169440"/>
            <a:ext cx="1370880" cy="808920"/>
          </a:xfrm>
          <a:prstGeom prst="bentConnector3">
            <a:avLst>
              <a:gd name="adj1" fmla="val 36984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7" name="AutoShape 30"/>
          <p:cNvCxnSpPr/>
          <p:nvPr/>
        </p:nvCxnSpPr>
        <p:spPr>
          <a:xfrm flipV="1" rot="10800000">
            <a:off x="2863080" y="3169800"/>
            <a:ext cx="1851840" cy="884880"/>
          </a:xfrm>
          <a:prstGeom prst="bentConnector3">
            <a:avLst>
              <a:gd name="adj1" fmla="val 68150"/>
            </a:avLst>
          </a:prstGeom>
          <a:ln w="3168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358" name="AutoShape 31"/>
          <p:cNvCxnSpPr/>
          <p:nvPr/>
        </p:nvCxnSpPr>
        <p:spPr>
          <a:xfrm rot="10800000">
            <a:off x="4952160" y="4266360"/>
            <a:ext cx="1918440" cy="305640"/>
          </a:xfrm>
          <a:prstGeom prst="bentConnector3">
            <a:avLst>
              <a:gd name="adj1" fmla="val 46096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59" name="Footer Placeholder 32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He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declaration begins wit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thod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845640" y="213372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1,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2, String mes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466640" y="3065400"/>
            <a:ext cx="10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 flipV="1">
            <a:off x="1986120" y="2590920"/>
            <a:ext cx="0" cy="457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782280" y="4056120"/>
            <a:ext cx="9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1224000" y="2590560"/>
            <a:ext cx="0" cy="1447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9"/>
          <p:cNvSpPr/>
          <p:nvPr/>
        </p:nvSpPr>
        <p:spPr>
          <a:xfrm rot="16200000">
            <a:off x="5059080" y="380520"/>
            <a:ext cx="304920" cy="5029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03"/>
                </a:lnTo>
                <a:cubicBezTo>
                  <a:pt x="10800" y="10003"/>
                  <a:pt x="5400" y="10903"/>
                  <a:pt x="0" y="10903"/>
                </a:cubicBezTo>
                <a:cubicBezTo>
                  <a:pt x="5400" y="10903"/>
                  <a:pt x="10800" y="11803"/>
                  <a:pt x="10800" y="127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3624120" y="3200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paramet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3035520" y="3979800"/>
            <a:ext cx="476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he parameter list specifies t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and name of each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he name of a parameter in th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declaration is called a </a:t>
            </a:r>
            <a:r>
              <a:rPr b="1" i="1" lang="en-US" sz="1800" spc="-1" strike="noStrike">
                <a:solidFill>
                  <a:srgbClr val="008000"/>
                </a:solidFill>
                <a:latin typeface="Verdana"/>
              </a:rPr>
              <a:t>formal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12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header is followed b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thod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840600" y="211464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c 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1,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2, String mes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862920" y="2517840"/>
            <a:ext cx="5972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num1 + num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 = message.charAt (su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418040" y="4875120"/>
            <a:ext cx="293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he return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must be consisten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he retur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 flipV="1">
            <a:off x="2882880" y="4324320"/>
            <a:ext cx="0" cy="5335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4952880" y="3809880"/>
            <a:ext cx="297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are lo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They are created each time the method is called, and are destroyed when it finishes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9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turn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method indicates the type of value that the method sends back to the calling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that does not return a value has a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vo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turn stat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the value that will be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expression must conform to the retur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 is called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ual para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invocation are copied in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mal parame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method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970920" y="3863880"/>
            <a:ext cx="7191000" cy="2326680"/>
            <a:chOff x="970920" y="3863880"/>
            <a:chExt cx="7191000" cy="2326680"/>
          </a:xfrm>
        </p:grpSpPr>
        <p:sp>
          <p:nvSpPr>
            <p:cNvPr id="385" name="Text Box 5"/>
            <p:cNvSpPr/>
            <p:nvPr/>
          </p:nvSpPr>
          <p:spPr>
            <a:xfrm>
              <a:off x="970920" y="3863880"/>
              <a:ext cx="719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char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alc (</a:t>
              </a: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int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1, </a:t>
              </a: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int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um2, String messag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6"/>
            <p:cNvSpPr/>
            <p:nvPr/>
          </p:nvSpPr>
          <p:spPr>
            <a:xfrm>
              <a:off x="992880" y="4267080"/>
              <a:ext cx="597204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int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um = num1 + num2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char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result = message.charAt (sum)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2000" spc="-1" strike="noStrike">
                  <a:solidFill>
                    <a:srgbClr val="3366ff"/>
                  </a:solidFill>
                  <a:latin typeface="Courier New"/>
                </a:rPr>
                <a:t>return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resul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7"/>
          <p:cNvSpPr/>
          <p:nvPr/>
        </p:nvSpPr>
        <p:spPr>
          <a:xfrm>
            <a:off x="1602720" y="259092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 = obj.calc (25, count, "Hello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316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9"/>
          <p:cNvGrpSpPr/>
          <p:nvPr/>
        </p:nvGrpSpPr>
        <p:grpSpPr>
          <a:xfrm>
            <a:off x="3657240" y="3048120"/>
            <a:ext cx="3657960" cy="762120"/>
            <a:chOff x="3657240" y="3048120"/>
            <a:chExt cx="3657960" cy="762120"/>
          </a:xfrm>
        </p:grpSpPr>
        <p:cxnSp>
          <p:nvCxnSpPr>
            <p:cNvPr id="390" name="AutoShape 10"/>
            <p:cNvCxnSpPr/>
            <p:nvPr/>
          </p:nvCxnSpPr>
          <p:spPr>
            <a:xfrm rot="5400000">
              <a:off x="3504600" y="3200400"/>
              <a:ext cx="762480" cy="457920"/>
            </a:xfrm>
            <a:prstGeom prst="bentConnector3">
              <a:avLst>
                <a:gd name="adj1" fmla="val 20595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391" name="AutoShape 11"/>
            <p:cNvCxnSpPr/>
            <p:nvPr/>
          </p:nvCxnSpPr>
          <p:spPr>
            <a:xfrm flipH="1" rot="16200000">
              <a:off x="4685400" y="3314520"/>
              <a:ext cx="762480" cy="229320"/>
            </a:xfrm>
            <a:prstGeom prst="bentConnector3">
              <a:avLst>
                <a:gd name="adj1" fmla="val 17241"/>
              </a:avLst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</p:cxnSp>
        <p:grpSp>
          <p:nvGrpSpPr>
            <p:cNvPr id="392" name="Group 12"/>
            <p:cNvGrpSpPr/>
            <p:nvPr/>
          </p:nvGrpSpPr>
          <p:grpSpPr>
            <a:xfrm>
              <a:off x="6171840" y="3048120"/>
              <a:ext cx="1143360" cy="761400"/>
              <a:chOff x="6171840" y="3048120"/>
              <a:chExt cx="1143360" cy="761400"/>
            </a:xfrm>
          </p:grpSpPr>
          <p:sp>
            <p:nvSpPr>
              <p:cNvPr id="393" name="Line 13"/>
              <p:cNvSpPr/>
              <p:nvPr/>
            </p:nvSpPr>
            <p:spPr>
              <a:xfrm>
                <a:off x="6172200" y="3048120"/>
                <a:ext cx="0" cy="15228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4"/>
              <p:cNvSpPr/>
              <p:nvPr/>
            </p:nvSpPr>
            <p:spPr>
              <a:xfrm flipH="1">
                <a:off x="6171840" y="3200400"/>
                <a:ext cx="11430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5"/>
              <p:cNvSpPr/>
              <p:nvPr/>
            </p:nvSpPr>
            <p:spPr>
              <a:xfrm>
                <a:off x="7315200" y="3200400"/>
                <a:ext cx="0" cy="60912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cal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’ve seen, local variables can be declared inside a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al parameters of a method cre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ic local vari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the method is inv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method finishes, all local variables are destroyed (including the formal parame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n mind that instance variables, declared at the class level, exists as long as the object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ig04_01.tif"/>
          <p:cNvPicPr/>
          <p:nvPr/>
        </p:nvPicPr>
        <p:blipFill>
          <a:blip r:embed="rId1"/>
          <a:stretch/>
        </p:blipFill>
        <p:spPr>
          <a:xfrm>
            <a:off x="1447920" y="1143000"/>
            <a:ext cx="6019560" cy="527688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k Accoun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look at another example that demonstrates the implementation details of classe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represent a bank account by a class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state can include the account number, the current balance, and the name of the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count’s behaviors (or services) include deposits and withdrawals, and adding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er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iver pro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s the use of other, more interesting parts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programs are often used to test other parts of th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ans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contain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hat drives the us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, exercising it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actions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ransactions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creation and use of multiple Account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some bank accounts and requests variou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acct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("Ted Murphy", 72354, 102.5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acct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("Jane Smith", 69713, 40.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acct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("Edward Demsey", 93757, 759.3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1.deposit (25.8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Balance = acct2.deposit (500.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mith balance after deposit: "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Balan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609480" y="96372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mith balance after withdrawal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2.withdraw (430.75, 1.5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1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2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3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609480" y="963720"/>
            <a:ext cx="7910640" cy="34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"Smith balance after withdrawal: "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2.withdraw (430.75, 1.5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1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2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3.addInteres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2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 (acct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2158200" y="685800"/>
            <a:ext cx="4999320" cy="2252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ourier Ne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 balance after deposit: 54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mith balance after withdrawal: 107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72354   Ted Murphy      $132.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69713   Jane Smith      $111.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93757   Edward Demsey   $785.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609480" y="18108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ccoun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bank account with basic services such as depo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nd withdra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text.NumberForma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E = 0.035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erest rate of 3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lo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Numb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ets up the account by defining its owner, account numb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nd initial bal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(String owner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long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own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ctNumber = ac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 = initia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5"/>
          <p:cNvSpPr/>
          <p:nvPr/>
        </p:nvSpPr>
        <p:spPr>
          <a:xfrm>
            <a:off x="609480" y="558720"/>
            <a:ext cx="7910640" cy="517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posits the specified amount into the account. Returns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new bal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posit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mou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 = balance + am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Withdraws the specified amount from the account and appl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the fee. Returns the new bal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ithdraw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mount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e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 = balance - amount - fe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609480" y="152280"/>
            <a:ext cx="791064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Adds interest to the account and returns the new bal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nterest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 += (balance * RA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the current balance of the accou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dou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Balance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lan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turns a one-line description of the account as a st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toString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Format fmt = NumberFormat.getCurrencyInstanc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acctNumber + "\t" + name + "\t" + fmt.format(balance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k Accoun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65"/>
          <p:cNvGrpSpPr/>
          <p:nvPr/>
        </p:nvGrpSpPr>
        <p:grpSpPr>
          <a:xfrm>
            <a:off x="919080" y="1600200"/>
            <a:ext cx="7081920" cy="1600200"/>
            <a:chOff x="919080" y="1600200"/>
            <a:chExt cx="7081920" cy="1600200"/>
          </a:xfrm>
        </p:grpSpPr>
        <p:sp>
          <p:nvSpPr>
            <p:cNvPr id="421" name="Rectangle 6"/>
            <p:cNvSpPr/>
            <p:nvPr/>
          </p:nvSpPr>
          <p:spPr>
            <a:xfrm>
              <a:off x="1784160" y="1676160"/>
              <a:ext cx="578160" cy="38124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7"/>
            <p:cNvSpPr/>
            <p:nvPr/>
          </p:nvSpPr>
          <p:spPr>
            <a:xfrm>
              <a:off x="919080" y="1690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>
              <a:off x="2819520" y="1600200"/>
              <a:ext cx="2895480" cy="160020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9"/>
            <p:cNvSpPr/>
            <p:nvPr/>
          </p:nvSpPr>
          <p:spPr>
            <a:xfrm>
              <a:off x="2057400" y="1866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4527360" y="1744560"/>
              <a:ext cx="9590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7235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1"/>
            <p:cNvSpPr/>
            <p:nvPr/>
          </p:nvSpPr>
          <p:spPr>
            <a:xfrm>
              <a:off x="2916360" y="175896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9"/>
            <p:cNvSpPr/>
            <p:nvPr/>
          </p:nvSpPr>
          <p:spPr>
            <a:xfrm>
              <a:off x="4527360" y="2209680"/>
              <a:ext cx="9590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02.5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0"/>
            <p:cNvSpPr/>
            <p:nvPr/>
          </p:nvSpPr>
          <p:spPr>
            <a:xfrm>
              <a:off x="3326040" y="22240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a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1"/>
            <p:cNvSpPr/>
            <p:nvPr/>
          </p:nvSpPr>
          <p:spPr>
            <a:xfrm>
              <a:off x="4527360" y="2674800"/>
              <a:ext cx="9590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2"/>
            <p:cNvSpPr/>
            <p:nvPr/>
          </p:nvSpPr>
          <p:spPr>
            <a:xfrm>
              <a:off x="3735720" y="2689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34"/>
            <p:cNvSpPr/>
            <p:nvPr/>
          </p:nvSpPr>
          <p:spPr>
            <a:xfrm>
              <a:off x="6095880" y="2682720"/>
              <a:ext cx="1905120" cy="36504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>
              <a:off x="4978440" y="286524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37"/>
            <p:cNvSpPr/>
            <p:nvPr/>
          </p:nvSpPr>
          <p:spPr>
            <a:xfrm>
              <a:off x="6147000" y="26668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"Ted Murphy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66"/>
          <p:cNvGrpSpPr/>
          <p:nvPr/>
        </p:nvGrpSpPr>
        <p:grpSpPr>
          <a:xfrm>
            <a:off x="919080" y="3809880"/>
            <a:ext cx="7081920" cy="1600200"/>
            <a:chOff x="919080" y="3809880"/>
            <a:chExt cx="7081920" cy="1600200"/>
          </a:xfrm>
        </p:grpSpPr>
        <p:sp>
          <p:nvSpPr>
            <p:cNvPr id="435" name="Rectangle 52"/>
            <p:cNvSpPr/>
            <p:nvPr/>
          </p:nvSpPr>
          <p:spPr>
            <a:xfrm>
              <a:off x="1784160" y="3886200"/>
              <a:ext cx="578160" cy="380880"/>
            </a:xfrm>
            <a:prstGeom prst="rect">
              <a:avLst/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3"/>
            <p:cNvSpPr/>
            <p:nvPr/>
          </p:nvSpPr>
          <p:spPr>
            <a:xfrm>
              <a:off x="919080" y="39002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54"/>
            <p:cNvSpPr/>
            <p:nvPr/>
          </p:nvSpPr>
          <p:spPr>
            <a:xfrm>
              <a:off x="2819520" y="3809880"/>
              <a:ext cx="2895480" cy="160020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55"/>
            <p:cNvSpPr/>
            <p:nvPr/>
          </p:nvSpPr>
          <p:spPr>
            <a:xfrm>
              <a:off x="2057400" y="40766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56"/>
            <p:cNvSpPr/>
            <p:nvPr/>
          </p:nvSpPr>
          <p:spPr>
            <a:xfrm>
              <a:off x="4527360" y="3954240"/>
              <a:ext cx="9590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697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57"/>
            <p:cNvSpPr/>
            <p:nvPr/>
          </p:nvSpPr>
          <p:spPr>
            <a:xfrm>
              <a:off x="2916360" y="396864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cct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58"/>
            <p:cNvSpPr/>
            <p:nvPr/>
          </p:nvSpPr>
          <p:spPr>
            <a:xfrm>
              <a:off x="4527360" y="4419360"/>
              <a:ext cx="9590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40.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59"/>
            <p:cNvSpPr/>
            <p:nvPr/>
          </p:nvSpPr>
          <p:spPr>
            <a:xfrm>
              <a:off x="3326040" y="443376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a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60"/>
            <p:cNvSpPr/>
            <p:nvPr/>
          </p:nvSpPr>
          <p:spPr>
            <a:xfrm>
              <a:off x="4527360" y="4884480"/>
              <a:ext cx="9590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61"/>
            <p:cNvSpPr/>
            <p:nvPr/>
          </p:nvSpPr>
          <p:spPr>
            <a:xfrm>
              <a:off x="3735720" y="489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62"/>
            <p:cNvSpPr/>
            <p:nvPr/>
          </p:nvSpPr>
          <p:spPr>
            <a:xfrm>
              <a:off x="6095880" y="4892400"/>
              <a:ext cx="1905120" cy="365400"/>
            </a:xfrm>
            <a:prstGeom prst="roundRect">
              <a:avLst>
                <a:gd name="adj" fmla="val 16667"/>
              </a:avLst>
            </a:prstGeom>
            <a:solidFill>
              <a:srgbClr val="f5e98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63"/>
            <p:cNvSpPr/>
            <p:nvPr/>
          </p:nvSpPr>
          <p:spPr>
            <a:xfrm>
              <a:off x="4978440" y="5075280"/>
              <a:ext cx="104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64"/>
            <p:cNvSpPr/>
            <p:nvPr/>
          </p:nvSpPr>
          <p:spPr>
            <a:xfrm>
              <a:off x="6147000" y="487656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"Jane Smith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Footer Placeholder 31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k Accoun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ome improvements that can be made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getters and setters could have been defined for al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gn of some methods could also be more robust, such as verifying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m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meter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ithdr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s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s and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from our overview of objects in Chapter 1 that an object h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ix-sided die (singular of d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state can be defined as which face is sh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primary behavior is that it can be 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present a die by designing a class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models this state an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serves as the blueprint for a di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then instantiate as many die objects as we need for any particula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uctors Revisi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 constructor has no return type specified in the method header, not ev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on error is to put a return type on a constructor, which makes it a “regular” method that happens to have the same name as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grammer does not have to define a constructor for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lass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ault constru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ccepts no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"/>
          <p:cNvSpPr/>
          <p:nvPr/>
        </p:nvSpPr>
        <p:spPr>
          <a:xfrm>
            <a:off x="304920" y="10666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express whi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's balance is updated when a deposit is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304920" y="106668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express whic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's balance is updated when a deposit is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>
            <a:off x="685800" y="2190600"/>
            <a:ext cx="7696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count is referenced by an object reference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ount myAcct = new Account(…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hen a method is called, you call it through a particular obj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yAcct.deposit(5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2667600" y="175752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1828800" y="34783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bjects contain information that determines how the object should be represented vi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GUI components are graphical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have some effect on how components get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d this in Chapter 2 when we define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an ap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some other examples of graphical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ing Fac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miling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am draws a face by defin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a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miling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nstantiate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milingFace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isplay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milingFace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derived from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using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47560" y="36972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milingFac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separate panel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miling Fac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547560" y="36972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milingFac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separate panel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frame of the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miling Fac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 panel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pan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6"/>
          <p:cNvGrpSpPr/>
          <p:nvPr/>
        </p:nvGrpSpPr>
        <p:grpSpPr>
          <a:xfrm>
            <a:off x="2209680" y="228600"/>
            <a:ext cx="4724640" cy="3287520"/>
            <a:chOff x="2209680" y="228600"/>
            <a:chExt cx="4724640" cy="3287520"/>
          </a:xfrm>
        </p:grpSpPr>
        <p:sp>
          <p:nvSpPr>
            <p:cNvPr id="477" name="TextBox 5"/>
            <p:cNvSpPr/>
            <p:nvPr/>
          </p:nvSpPr>
          <p:spPr>
            <a:xfrm>
              <a:off x="2209680" y="228600"/>
              <a:ext cx="4724640" cy="3287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Picture 5" descr="Screen shot 2011-02-17 at 2.53.12 PM.png"/>
            <p:cNvPicPr/>
            <p:nvPr/>
          </p:nvPicPr>
          <p:blipFill>
            <a:blip r:embed="rId1"/>
            <a:stretch/>
          </p:blipFill>
          <p:spPr>
            <a:xfrm>
              <a:off x="2571480" y="486720"/>
              <a:ext cx="4038840" cy="280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5"/>
          <p:cNvSpPr/>
          <p:nvPr/>
        </p:nvSpPr>
        <p:spPr>
          <a:xfrm>
            <a:off x="609480" y="60948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milingFace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a separate panel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Pan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final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X = 120, BASEY = 60;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 point for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main characteristics of this pan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milingFace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u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20, 2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Font (new Font("Arial", Font.BOLD, 16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609480" y="30492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a 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 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yellow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BASEX, BASEY, 80, 8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BASEX-5, BASEY+20, 90, 4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Oval (BASEX+20, BASEY+30, 15, 7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Oval (BASEX+45, BASEY+30, 15, 7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BASEX+25, BASEY+31, 5, 5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up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BASEX+50, BASEY+31, 5, 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BASEX+20, BASEY+25, 15, 7, 0, 18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yebr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BASEX+45, BASEY+25, 15, 7, 0, 18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BASEX+35, BASEY+40, 15, 10, 180, 18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Arc (BASEX+20, BASEY+50, 40, 15, 180, 180);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ou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can contain data declarations and method 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6"/>
          <p:cNvGrpSpPr/>
          <p:nvPr/>
        </p:nvGrpSpPr>
        <p:grpSpPr>
          <a:xfrm>
            <a:off x="1752480" y="2286000"/>
            <a:ext cx="2971800" cy="3809880"/>
            <a:chOff x="1752480" y="2286000"/>
            <a:chExt cx="2971800" cy="3809880"/>
          </a:xfrm>
        </p:grpSpPr>
        <p:sp>
          <p:nvSpPr>
            <p:cNvPr id="144" name="AutoShape 5"/>
            <p:cNvSpPr/>
            <p:nvPr/>
          </p:nvSpPr>
          <p:spPr>
            <a:xfrm>
              <a:off x="1752480" y="2286000"/>
              <a:ext cx="2971800" cy="3809880"/>
            </a:xfrm>
            <a:prstGeom prst="flowChartAlternateProcess">
              <a:avLst/>
            </a:prstGeom>
            <a:solidFill>
              <a:srgbClr val="f5e985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2057400" y="3352680"/>
              <a:ext cx="1752480" cy="7621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057400" y="4228920"/>
              <a:ext cx="1752480" cy="5335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057400" y="4876560"/>
              <a:ext cx="1752480" cy="9144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9"/>
            <p:cNvSpPr/>
            <p:nvPr/>
          </p:nvSpPr>
          <p:spPr>
            <a:xfrm>
              <a:off x="1982880" y="2513880"/>
              <a:ext cx="2512440" cy="642600"/>
            </a:xfrm>
            <a:prstGeom prst="rect">
              <a:avLst/>
            </a:prstGeom>
            <a:solidFill>
              <a:srgbClr val="f5e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int size, weigh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ar catego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0"/>
          <p:cNvSpPr/>
          <p:nvPr/>
        </p:nvSpPr>
        <p:spPr>
          <a:xfrm>
            <a:off x="5815440" y="2589840"/>
            <a:ext cx="243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Data decl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394600" y="4342320"/>
            <a:ext cx="28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Verdana"/>
              </a:rPr>
              <a:t>Method decla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 flipH="1">
            <a:off x="4419720" y="2819520"/>
            <a:ext cx="12952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3962520" y="3352680"/>
            <a:ext cx="1142640" cy="2438280"/>
            <a:chOff x="3962520" y="3352680"/>
            <a:chExt cx="1142640" cy="2438280"/>
          </a:xfrm>
        </p:grpSpPr>
        <p:sp>
          <p:nvSpPr>
            <p:cNvPr id="153" name="AutoShape 14"/>
            <p:cNvSpPr/>
            <p:nvPr/>
          </p:nvSpPr>
          <p:spPr>
            <a:xfrm>
              <a:off x="3962520" y="3352680"/>
              <a:ext cx="628560" cy="2438280"/>
            </a:xfrm>
            <a:custGeom>
              <a:avLst/>
              <a:gdLst>
                <a:gd name="textAreaLeft" fmla="*/ 0 w 628560"/>
                <a:gd name="textAreaRight" fmla="*/ 226800 w 62856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5"/>
            <p:cNvSpPr/>
            <p:nvPr/>
          </p:nvSpPr>
          <p:spPr>
            <a:xfrm flipH="1">
              <a:off x="4591080" y="4571640"/>
              <a:ext cx="5140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Footer Placeholder 16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609480" y="1600200"/>
            <a:ext cx="8077320" cy="19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.wh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Always remember that you are unique!"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EX-105, BASEY-1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drawString ("Just like everyone else.", BASEX-45, BASEY+10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ing Fac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wing component ha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accept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that represents the graphics context for the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fin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to draw the face with appropriate calls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difference between drawing on a panel and adding other GUI components to a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la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pl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 is structured a bit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raws a set of colored circles on a panel, but each circle is represented as a separate object that maintains its own graphic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panel "asks" each circle to draw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547560" y="3697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la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graphica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esents a collection of circ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pla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5"/>
          <p:cNvSpPr/>
          <p:nvPr/>
        </p:nvSpPr>
        <p:spPr>
          <a:xfrm>
            <a:off x="547560" y="369720"/>
            <a:ext cx="791064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lat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graphica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resents a collection of circ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Splat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7"/>
          <p:cNvGrpSpPr/>
          <p:nvPr/>
        </p:nvGrpSpPr>
        <p:grpSpPr>
          <a:xfrm>
            <a:off x="2286000" y="228600"/>
            <a:ext cx="4495680" cy="3287520"/>
            <a:chOff x="2286000" y="228600"/>
            <a:chExt cx="4495680" cy="3287520"/>
          </a:xfrm>
        </p:grpSpPr>
        <p:sp>
          <p:nvSpPr>
            <p:cNvPr id="496" name="TextBox 5"/>
            <p:cNvSpPr/>
            <p:nvPr/>
          </p:nvSpPr>
          <p:spPr>
            <a:xfrm>
              <a:off x="2286000" y="228600"/>
              <a:ext cx="4495680" cy="3287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6" descr="Screen shot 2011-02-17 at 2.53.37 PM.png"/>
            <p:cNvPicPr/>
            <p:nvPr/>
          </p:nvPicPr>
          <p:blipFill>
            <a:blip r:embed="rId1"/>
            <a:stretch/>
          </p:blipFill>
          <p:spPr>
            <a:xfrm>
              <a:off x="2656080" y="501480"/>
              <a:ext cx="3784680" cy="2806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5"/>
          <p:cNvSpPr/>
          <p:nvPr/>
        </p:nvSpPr>
        <p:spPr>
          <a:xfrm>
            <a:off x="609480" y="228600"/>
            <a:ext cx="7910640" cy="645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SplatPanel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the use of graphica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circle1, circle2, circle3, circle4, circle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Creates five Circle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latPane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1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30, Color.red, 70, 3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2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50, Color.green, 30, 2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3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100, Color.cyan, 60, 8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4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45, Color.yellow, 170, 3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60, Color.blue, 200, 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20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bl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5"/>
          <p:cNvSpPr/>
          <p:nvPr/>
        </p:nvSpPr>
        <p:spPr>
          <a:xfrm>
            <a:off x="609480" y="923760"/>
            <a:ext cx="79106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this panel by requesting that each circle draw itsel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Component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sup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aintComponent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1.draw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2.draw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3.draw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4.draw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5.draw(pag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5"/>
          <p:cNvSpPr/>
          <p:nvPr/>
        </p:nvSpPr>
        <p:spPr>
          <a:xfrm>
            <a:off x="609480" y="457200"/>
            <a:ext cx="8077320" cy="560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ircle.java       Author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circle with a particular position, size, and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, x, 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 col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is circle with the specified val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ircl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, Color shade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X,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= siz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 = sha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upper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uppe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"/>
          <p:cNvSpPr/>
          <p:nvPr/>
        </p:nvSpPr>
        <p:spPr>
          <a:xfrm>
            <a:off x="609480" y="152280"/>
            <a:ext cx="8077320" cy="624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raws this circle in the specified graphics con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 (Graphics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setColor (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ge.fillOval (x, y, diameter, diamet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ameter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Diamet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 = siz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lor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Color (Color sha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 = sha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5"/>
          <p:cNvSpPr/>
          <p:nvPr/>
        </p:nvSpPr>
        <p:spPr>
          <a:xfrm>
            <a:off x="609480" y="152280"/>
            <a:ext cx="807732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X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X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upper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Y muta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Y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ppe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uppe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iameter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Diameter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s of the data define the state of an object created from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ality of the methods define the behaviors of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u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, we might declare an integer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represents the current value showing on the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ethods would “roll” the die by s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Val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random number between one and s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5"/>
          <p:cNvSpPr/>
          <p:nvPr/>
        </p:nvSpPr>
        <p:spPr>
          <a:xfrm>
            <a:off x="609480" y="152280"/>
            <a:ext cx="807732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lor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 getColor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X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Y access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etY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667600" y="190980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1828800" y="4195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ical User Interface (GUI) in Java is created with at least three kinds of 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, events, and lis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've previously discuss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e objects that represent scree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, buttons, text fields, menu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mponent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ai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hold and organize other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s, panels, applets, dialog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object that represents some activity to which we may want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we may want our program to perform some action when the following occ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use is 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use is dragg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use button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phical button is 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eyboard key is p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r ex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s and Liste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API contains several classes that represent typica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, such as a graphical button, generate (or fire) an event when i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et up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to respond to an event when i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design listener objects to take whatever actions are appropriate when an even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s and Liste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5"/>
          <p:cNvGrpSpPr/>
          <p:nvPr/>
        </p:nvGrpSpPr>
        <p:grpSpPr>
          <a:xfrm>
            <a:off x="1217880" y="1828800"/>
            <a:ext cx="2727360" cy="2439360"/>
            <a:chOff x="1217880" y="1828800"/>
            <a:chExt cx="2727360" cy="2439360"/>
          </a:xfrm>
        </p:grpSpPr>
        <p:sp>
          <p:nvSpPr>
            <p:cNvPr id="525" name="AutoShape 4"/>
            <p:cNvSpPr/>
            <p:nvPr/>
          </p:nvSpPr>
          <p:spPr>
            <a:xfrm>
              <a:off x="1838520" y="1828800"/>
              <a:ext cx="1447920" cy="16002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5"/>
            <p:cNvSpPr/>
            <p:nvPr/>
          </p:nvSpPr>
          <p:spPr>
            <a:xfrm>
              <a:off x="1217880" y="3564360"/>
              <a:ext cx="2727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A component 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generates an 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6"/>
          <p:cNvGrpSpPr/>
          <p:nvPr/>
        </p:nvGrpSpPr>
        <p:grpSpPr>
          <a:xfrm>
            <a:off x="4747320" y="1828800"/>
            <a:ext cx="3315600" cy="2744280"/>
            <a:chOff x="4747320" y="1828800"/>
            <a:chExt cx="3315600" cy="2744280"/>
          </a:xfrm>
        </p:grpSpPr>
        <p:sp>
          <p:nvSpPr>
            <p:cNvPr id="528" name="AutoShape 7"/>
            <p:cNvSpPr/>
            <p:nvPr/>
          </p:nvSpPr>
          <p:spPr>
            <a:xfrm>
              <a:off x="5724720" y="1828800"/>
              <a:ext cx="1447920" cy="16002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sten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8"/>
            <p:cNvSpPr/>
            <p:nvPr/>
          </p:nvSpPr>
          <p:spPr>
            <a:xfrm>
              <a:off x="4747320" y="3564360"/>
              <a:ext cx="331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A corresponding listen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object is designed 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 Unicode MS"/>
                </a:rPr>
                <a:t>respond to the 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4"/>
          <p:cNvGrpSpPr/>
          <p:nvPr/>
        </p:nvGrpSpPr>
        <p:grpSpPr>
          <a:xfrm>
            <a:off x="3362400" y="1523880"/>
            <a:ext cx="2209680" cy="838440"/>
            <a:chOff x="3362400" y="1523880"/>
            <a:chExt cx="2209680" cy="838440"/>
          </a:xfrm>
        </p:grpSpPr>
        <p:sp>
          <p:nvSpPr>
            <p:cNvPr id="531" name="Line 10"/>
            <p:cNvSpPr/>
            <p:nvPr/>
          </p:nvSpPr>
          <p:spPr>
            <a:xfrm>
              <a:off x="3362400" y="2362320"/>
              <a:ext cx="22096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1"/>
            <p:cNvSpPr/>
            <p:nvPr/>
          </p:nvSpPr>
          <p:spPr>
            <a:xfrm>
              <a:off x="4030560" y="1523880"/>
              <a:ext cx="837720" cy="685800"/>
            </a:xfrm>
            <a:prstGeom prst="flowChartProcess">
              <a:avLst/>
            </a:prstGeom>
            <a:solidFill>
              <a:srgbClr val="f5e98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 Box 12"/>
          <p:cNvSpPr/>
          <p:nvPr/>
        </p:nvSpPr>
        <p:spPr>
          <a:xfrm>
            <a:off x="1612080" y="4860000"/>
            <a:ext cx="580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When the event occurs, the component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the appropriate method of the listen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Unicode MS"/>
              </a:rPr>
              <a:t>passing an object that describes the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1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 Java program that uses a GUI we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iate and set up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listener classes for any events we care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the relationship between listeners and the components that generate the corresponding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now explore some new components and see how this all come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2667600" y="1986120"/>
            <a:ext cx="387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y of 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tons and Tex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1828800" y="48052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5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sh butt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defin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enerate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on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ample displays a push button that increments a counter each time it is pu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609480" y="53352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ushCounter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graphical user interface and an event listen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Push Count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want to desig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so that it is a versatile and reusabl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given program will probably not use all operations of a given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ollingDic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ie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609480" y="533520"/>
            <a:ext cx="7910640" cy="53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ushCounter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graphical user interface and an event listen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JFr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reates the main program fr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stat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 (String[] arg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frame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Frame ("Push Count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DefaultCloseOperation (JFrame.EXIT_ON_CLOS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getContentPane().add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Panel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pac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me.setVisible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11"/>
          <p:cNvGrpSpPr/>
          <p:nvPr/>
        </p:nvGrpSpPr>
        <p:grpSpPr>
          <a:xfrm>
            <a:off x="2286000" y="428760"/>
            <a:ext cx="4495680" cy="1309320"/>
            <a:chOff x="2286000" y="428760"/>
            <a:chExt cx="4495680" cy="1309320"/>
          </a:xfrm>
        </p:grpSpPr>
        <p:sp>
          <p:nvSpPr>
            <p:cNvPr id="550" name="TextBox 5"/>
            <p:cNvSpPr/>
            <p:nvPr/>
          </p:nvSpPr>
          <p:spPr>
            <a:xfrm>
              <a:off x="2286000" y="428760"/>
              <a:ext cx="4495680" cy="130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37160" bIns="13716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1" name="Picture 10" descr="Screen shot 2011-02-17 at 2.54.18 PM.png"/>
            <p:cNvPicPr/>
            <p:nvPr/>
          </p:nvPicPr>
          <p:blipFill>
            <a:blip r:embed="rId1"/>
            <a:stretch/>
          </p:blipFill>
          <p:spPr>
            <a:xfrm>
              <a:off x="2656080" y="689040"/>
              <a:ext cx="3784680" cy="787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5"/>
          <p:cNvSpPr/>
          <p:nvPr/>
        </p:nvSpPr>
        <p:spPr>
          <a:xfrm>
            <a:off x="623880" y="306360"/>
            <a:ext cx="7910640" cy="602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PushCounterPanel.java       Authors: Lewis/Lof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Demonstrates a graphical user interface and an event listen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awt.event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or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x.swing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Panel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extend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pus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Label labe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Constructor: Sets up the GU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CounterPanel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 =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JButton ("Push Me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sh.addActionListener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Listener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623880" y="446040"/>
            <a:ext cx="7910640" cy="58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Courier New"/>
              </a:rPr>
              <a:t>conti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 = new JLabel ("Pushes: " + cou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pus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(labe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referredSize (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new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(300, 40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Background (Color.cya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Represents a listener for button push (action) ev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rivate clas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ttonListener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Liste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  Updates the counter and label when the button is push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  <a:ea typeface="Courier New"/>
              </a:rPr>
              <a:t>//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66ff"/>
                </a:solidFill>
                <a:latin typeface="Courier New"/>
                <a:ea typeface="Courier New"/>
              </a:rPr>
              <a:t>public voi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 (ActionEvent ev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++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bel.setText("Pushes: " + cou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Count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onents of the GUI are the button, a label to display the counter, a panel to organize the components, and the main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represents the panel used to display the button and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derived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ructo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s up the elements of the GUI and initializes the counter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Count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s the listener for the action event generated by the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lemented a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ner 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means it is defined within the body of anothe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facilitates the communication between the listener and the GUI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classes should only be used in situations where there is an intimate relationship between the two classes and the inner class is not needed in any other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Count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er classes are written by implement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sten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s implemen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face is a list of methods that the implementing class must 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method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face i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ava API contains interfaces for many types of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scuss interfaces in more detail in 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Counter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ushCounterPa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uc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iate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Liste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the relationship between the button and the listener by the call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user presses the button, the button component creates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 and call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of the lis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 increments the counter and resets the text of the 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304920" y="1066680"/>
            <a:ext cx="868680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bject in the Push Counter example generated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it do t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ck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304920" y="1066680"/>
            <a:ext cx="868680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bject in the Push Counter example generated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it do t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685800" y="2286000"/>
            <a:ext cx="769608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tton component generated the 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It calle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onPerform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 method of the listener object that had been registered with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's look at another GUI example that uses another type of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 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ows the user to enter one line of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ursor is in the text field, the text field object generates an action event when the enter key is 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ahrenheitPanel.j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352680" y="6477120"/>
            <a:ext cx="5562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2 Pearson Education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0:14:43Z</dcterms:created>
  <dc:creator>usnidem</dc:creator>
  <dc:description/>
  <dc:language>en-US</dc:language>
  <cp:lastModifiedBy>Noreen Elliott</cp:lastModifiedBy>
  <dcterms:modified xsi:type="dcterms:W3CDTF">2013-08-12T20:17:37Z</dcterms:modified>
  <cp:revision>21</cp:revision>
  <dc:subject/>
  <dc:title>Chapter #, Title</dc:title>
</cp:coreProperties>
</file>